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32F-4C11-4B7F-BBC9-8DBD64C6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630-5319-4B88-9C40-14F93248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0F2-A934-46E4-86D0-C3DF30DB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9F7-84EF-4862-BD7F-589B0375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93FD-6E46-4AD7-A68C-DF0E5EE1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721C-B6DD-402D-8EA7-8AFE73D6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5586-1547-45F5-ACDE-1E9DCC1E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5071-B18D-45CE-98DD-EBA39601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BF56-14CA-4949-9AF1-1952E8D2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510C-E591-4A10-BAD6-EEACD824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2370-5F4F-4348-87AE-7D16CAEF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020-7DC0-476E-A58E-46C4654E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61C0-DC8E-4363-B391-5C467D26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9787-B86D-412D-A2D1-6314AF93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770A-5177-4687-8027-E7F70A78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8C06-9D0D-4445-9EFC-85D5582E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6867-1346-44BF-97F2-5CF1212D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CA7-6455-4CED-9AD2-A7B83040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4F5-A479-4426-8721-7EE4EB46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1FB-BB8E-4116-AE90-DD1EF5C1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347-26AA-4A5E-9508-0EE43CC1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16B-3A90-477D-AD27-122BA942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0D2-087A-43E6-98BC-4AAB81C6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CED-E379-4D00-9E1F-025CEFE3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2.png"/><Relationship Id="rId35" Type="http://schemas.openxmlformats.org/officeDocument/2006/relationships/image" Target="../media/image33.png"/><Relationship Id="rId36" Type="http://schemas.openxmlformats.org/officeDocument/2006/relationships/image" Target="../media/image33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811F-B14E-4C3B-8891-8C648E0F8310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50840" y="0"/>
            <a:ext cx="9520560" cy="6858000"/>
            <a:chOff x="-150840" y="0"/>
            <a:chExt cx="952056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50840" y="304560"/>
              <a:ext cx="9209160" cy="6438600"/>
              <a:chOff x="-150840" y="304560"/>
              <a:chExt cx="9209160" cy="6438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50840" y="3517560"/>
                <a:ext cx="1464120" cy="1462320"/>
                <a:chOff x="-150840" y="3517560"/>
                <a:chExt cx="1464120" cy="146232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55800"/>
                  <a:ext cx="1258560" cy="121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86400" y="3708360"/>
                  <a:ext cx="989280" cy="108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7160" y="304560"/>
                <a:ext cx="1462320" cy="1362240"/>
                <a:chOff x="317160" y="304560"/>
                <a:chExt cx="1462320" cy="136224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66560" y="437040"/>
                  <a:ext cx="1191960" cy="10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57720" y="365400"/>
                  <a:ext cx="780840" cy="12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68640" y="611640"/>
                <a:ext cx="1297800" cy="1265760"/>
                <a:chOff x="7568640" y="611640"/>
                <a:chExt cx="1297800" cy="126576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78720" y="677160"/>
                  <a:ext cx="1228680" cy="114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694280" y="745920"/>
                  <a:ext cx="1046520" cy="99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793560" y="1863000"/>
                <a:ext cx="1462320" cy="833400"/>
                <a:chOff x="6793560" y="1863000"/>
                <a:chExt cx="1462320" cy="83340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93560" y="1877760"/>
                  <a:ext cx="1462320" cy="77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56160" y="1616040"/>
                  <a:ext cx="534960" cy="13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82320" y="4819320"/>
                <a:ext cx="1476000" cy="1174680"/>
                <a:chOff x="7582320" y="4819320"/>
                <a:chExt cx="1476000" cy="11746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20480" y="4924800"/>
                  <a:ext cx="1420560" cy="100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19280" y="4763880"/>
                  <a:ext cx="801720" cy="12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71400" y="5281560"/>
                <a:ext cx="1603800" cy="1461600"/>
                <a:chOff x="6971400" y="5281560"/>
                <a:chExt cx="1603800" cy="146160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082640" y="5445360"/>
                  <a:ext cx="1392120" cy="116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399800" y="5290200"/>
                  <a:ext cx="746280" cy="144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3960"/>
              <a:ext cx="9144000" cy="6764040"/>
              <a:chOff x="0" y="93960"/>
              <a:chExt cx="9144000" cy="676404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06360" y="3521520"/>
                <a:ext cx="1262880" cy="1282320"/>
                <a:chOff x="7506360" y="3521520"/>
                <a:chExt cx="1262880" cy="128232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94200" y="3665880"/>
                  <a:ext cx="1099440" cy="101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77000" y="3679200"/>
                  <a:ext cx="920880" cy="96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00960" y="5100120"/>
                <a:ext cx="1202040" cy="1341000"/>
                <a:chOff x="6600960" y="5100120"/>
                <a:chExt cx="1202040" cy="134100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10760" y="5221080"/>
                  <a:ext cx="937080" cy="111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77080" y="5180040"/>
                  <a:ext cx="649080" cy="118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62480" y="2269800"/>
                <a:ext cx="1124640" cy="1133640"/>
                <a:chOff x="7062480" y="2269800"/>
                <a:chExt cx="1124640" cy="113364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37360" y="2387880"/>
                  <a:ext cx="973080" cy="85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0880" y="2418840"/>
                  <a:ext cx="807480" cy="83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74640" y="93960"/>
                <a:ext cx="1073520" cy="1146960"/>
                <a:chOff x="7874640" y="93960"/>
                <a:chExt cx="1073520" cy="114696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32680" y="212400"/>
                  <a:ext cx="756720" cy="94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093880" y="189000"/>
                  <a:ext cx="635040" cy="95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55120" y="1019160"/>
                <a:ext cx="966960" cy="490320"/>
                <a:chOff x="6855120" y="1019160"/>
                <a:chExt cx="966960" cy="49032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55120" y="1019160"/>
                  <a:ext cx="966960" cy="49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2200" y="844560"/>
                  <a:ext cx="356760" cy="83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5440" y="98640"/>
                <a:ext cx="1225080" cy="1313640"/>
                <a:chOff x="595440" y="98640"/>
                <a:chExt cx="1225080" cy="131364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38720" y="247320"/>
                  <a:ext cx="912960" cy="99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36640" y="213480"/>
                  <a:ext cx="742320" cy="10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699400" y="1170360"/>
                <a:ext cx="444600" cy="908280"/>
                <a:chOff x="8699400" y="1170360"/>
                <a:chExt cx="444600" cy="90828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699400" y="1170360"/>
                  <a:ext cx="444600" cy="90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67080" y="1239120"/>
                  <a:ext cx="310680" cy="77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4992480"/>
                <a:ext cx="811080" cy="1035720"/>
                <a:chOff x="11880" y="4992480"/>
                <a:chExt cx="811080" cy="103572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4992480"/>
                  <a:ext cx="811080" cy="1035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76680" y="5061600"/>
                  <a:ext cx="682920" cy="89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33520"/>
                <a:ext cx="576720" cy="981000"/>
                <a:chOff x="0" y="2333520"/>
                <a:chExt cx="576720" cy="98100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33520"/>
                  <a:ext cx="57672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66240" y="2400120"/>
                  <a:ext cx="447120" cy="84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29040" y="6052680"/>
                <a:ext cx="714960" cy="805320"/>
                <a:chOff x="8429040" y="6052680"/>
                <a:chExt cx="714960" cy="80532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29040" y="6052680"/>
                  <a:ext cx="714960" cy="80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493840" y="6118560"/>
                  <a:ext cx="58428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86640" cy="6858000"/>
              <a:chOff x="-16920" y="0"/>
              <a:chExt cx="938664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78560" y="1325520"/>
                <a:ext cx="1991160" cy="2230200"/>
                <a:chOff x="7378560" y="1325520"/>
                <a:chExt cx="1991160" cy="223020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18760" y="1524240"/>
                  <a:ext cx="1341360" cy="177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39640" y="1514880"/>
                  <a:ext cx="1268280" cy="18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797240" y="5443920"/>
                <a:ext cx="1239480" cy="794160"/>
                <a:chOff x="7797240" y="5443920"/>
                <a:chExt cx="1239480" cy="79416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797240" y="5528520"/>
                  <a:ext cx="1197000" cy="60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71120"/>
                  <a:ext cx="466200" cy="11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46120" y="3908160"/>
                <a:ext cx="1532520" cy="1676520"/>
                <a:chOff x="6846120" y="3908160"/>
                <a:chExt cx="1532520" cy="167652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81200" y="4105080"/>
                  <a:ext cx="1052640" cy="133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47080" y="4048560"/>
                  <a:ext cx="93024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590600" y="393120"/>
                <a:ext cx="873720" cy="1286280"/>
                <a:chOff x="7590600" y="393120"/>
                <a:chExt cx="873720" cy="1286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34520" y="445320"/>
                  <a:ext cx="751680" cy="11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74920" y="443160"/>
                  <a:ext cx="504360" cy="11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51960" y="3295800"/>
                <a:ext cx="1318680" cy="1306080"/>
                <a:chOff x="7851960" y="3295800"/>
                <a:chExt cx="1318680" cy="130608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31960" y="3378240"/>
                  <a:ext cx="980280" cy="11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34840" y="3456720"/>
                  <a:ext cx="952200" cy="9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07680"/>
                <a:ext cx="583200" cy="850320"/>
                <a:chOff x="12960" y="6007680"/>
                <a:chExt cx="583200" cy="85032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07680"/>
                  <a:ext cx="583200" cy="85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68400" y="6064200"/>
                  <a:ext cx="47592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18120"/>
                <a:ext cx="986400" cy="1173960"/>
                <a:chOff x="-4680" y="3318120"/>
                <a:chExt cx="986400" cy="117396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18120"/>
                  <a:ext cx="986400" cy="117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38520" y="3358080"/>
                  <a:ext cx="900720" cy="10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1480"/>
                <a:ext cx="601200" cy="1407600"/>
                <a:chOff x="-16920" y="1401480"/>
                <a:chExt cx="601200" cy="140760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1480"/>
                  <a:ext cx="601200" cy="140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38160" y="1454760"/>
                  <a:ext cx="493200" cy="12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66760" cy="868320"/>
                <a:chOff x="-10800" y="0"/>
                <a:chExt cx="1166760" cy="86832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6676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55440" y="65880"/>
                  <a:ext cx="1035720" cy="73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30320" y="11880"/>
                <a:ext cx="914040" cy="676800"/>
                <a:chOff x="8230320" y="11880"/>
                <a:chExt cx="914040" cy="67680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30320" y="11880"/>
                  <a:ext cx="914040" cy="67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295120" y="77040"/>
                  <a:ext cx="783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882840" y="6115320"/>
                <a:ext cx="1257120" cy="742680"/>
                <a:chOff x="6882840" y="6115320"/>
                <a:chExt cx="1257120" cy="7426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882840" y="6115320"/>
                  <a:ext cx="1257120" cy="74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36840" y="6166800"/>
                  <a:ext cx="114732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50840" y="0"/>
            <a:ext cx="9520560" cy="6858000"/>
            <a:chOff x="-150840" y="0"/>
            <a:chExt cx="952056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50840" y="304560"/>
              <a:ext cx="9209160" cy="6438600"/>
              <a:chOff x="-150840" y="304560"/>
              <a:chExt cx="9209160" cy="6438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50840" y="3517560"/>
                <a:ext cx="1464120" cy="1462320"/>
                <a:chOff x="-150840" y="3517560"/>
                <a:chExt cx="1464120" cy="146232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55800"/>
                  <a:ext cx="1258560" cy="121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86400" y="3708360"/>
                  <a:ext cx="989280" cy="108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7160" y="304560"/>
                <a:ext cx="1462320" cy="1362240"/>
                <a:chOff x="317160" y="304560"/>
                <a:chExt cx="1462320" cy="136224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66560" y="437040"/>
                  <a:ext cx="1191960" cy="10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57720" y="365400"/>
                  <a:ext cx="780840" cy="12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68640" y="611640"/>
                <a:ext cx="1297800" cy="1265760"/>
                <a:chOff x="7568640" y="611640"/>
                <a:chExt cx="1297800" cy="126576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78720" y="677160"/>
                  <a:ext cx="1228680" cy="114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694280" y="745920"/>
                  <a:ext cx="1046520" cy="99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793560" y="1863000"/>
                <a:ext cx="1462320" cy="833400"/>
                <a:chOff x="6793560" y="1863000"/>
                <a:chExt cx="1462320" cy="83340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93560" y="1877760"/>
                  <a:ext cx="1462320" cy="77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56160" y="1616040"/>
                  <a:ext cx="534960" cy="13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82320" y="4819320"/>
                <a:ext cx="1476000" cy="1174680"/>
                <a:chOff x="7582320" y="4819320"/>
                <a:chExt cx="1476000" cy="11746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20480" y="4924800"/>
                  <a:ext cx="1420560" cy="100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19280" y="4763880"/>
                  <a:ext cx="801720" cy="12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71400" y="5281560"/>
                <a:ext cx="1603800" cy="1461600"/>
                <a:chOff x="6971400" y="5281560"/>
                <a:chExt cx="1603800" cy="146160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082640" y="5445360"/>
                  <a:ext cx="1392120" cy="116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399800" y="5290200"/>
                  <a:ext cx="746280" cy="144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3960"/>
              <a:ext cx="9144000" cy="6764040"/>
              <a:chOff x="0" y="93960"/>
              <a:chExt cx="9144000" cy="676404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06360" y="3521520"/>
                <a:ext cx="1262880" cy="1282320"/>
                <a:chOff x="7506360" y="3521520"/>
                <a:chExt cx="1262880" cy="128232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94200" y="3665880"/>
                  <a:ext cx="1099440" cy="101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77000" y="3679200"/>
                  <a:ext cx="920880" cy="96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00960" y="5100120"/>
                <a:ext cx="1202040" cy="1341000"/>
                <a:chOff x="6600960" y="5100120"/>
                <a:chExt cx="1202040" cy="134100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10760" y="5221080"/>
                  <a:ext cx="937080" cy="111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77080" y="5180040"/>
                  <a:ext cx="649080" cy="118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62480" y="2269800"/>
                <a:ext cx="1124640" cy="1133640"/>
                <a:chOff x="7062480" y="2269800"/>
                <a:chExt cx="1124640" cy="113364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37360" y="2387880"/>
                  <a:ext cx="973080" cy="85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0880" y="2418840"/>
                  <a:ext cx="807480" cy="83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74640" y="93960"/>
                <a:ext cx="1073520" cy="1146960"/>
                <a:chOff x="7874640" y="93960"/>
                <a:chExt cx="1073520" cy="114696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32680" y="212400"/>
                  <a:ext cx="756720" cy="94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093880" y="189000"/>
                  <a:ext cx="635040" cy="95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55120" y="1019160"/>
                <a:ext cx="966960" cy="490320"/>
                <a:chOff x="6855120" y="1019160"/>
                <a:chExt cx="966960" cy="49032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55120" y="1019160"/>
                  <a:ext cx="966960" cy="49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2200" y="844560"/>
                  <a:ext cx="356760" cy="83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5440" y="98640"/>
                <a:ext cx="1225080" cy="1313640"/>
                <a:chOff x="595440" y="98640"/>
                <a:chExt cx="1225080" cy="131364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38720" y="247320"/>
                  <a:ext cx="912960" cy="99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36640" y="213480"/>
                  <a:ext cx="742320" cy="10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699400" y="1170360"/>
                <a:ext cx="444600" cy="908280"/>
                <a:chOff x="8699400" y="1170360"/>
                <a:chExt cx="444600" cy="90828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699400" y="1170360"/>
                  <a:ext cx="444600" cy="90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67080" y="1239120"/>
                  <a:ext cx="310680" cy="77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4992480"/>
                <a:ext cx="811080" cy="1035720"/>
                <a:chOff x="11880" y="4992480"/>
                <a:chExt cx="811080" cy="103572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4992480"/>
                  <a:ext cx="811080" cy="1035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76680" y="5061600"/>
                  <a:ext cx="682920" cy="89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33520"/>
                <a:ext cx="576720" cy="981000"/>
                <a:chOff x="0" y="2333520"/>
                <a:chExt cx="576720" cy="98100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33520"/>
                  <a:ext cx="57672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66240" y="2400120"/>
                  <a:ext cx="447120" cy="84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29040" y="6052680"/>
                <a:ext cx="714960" cy="805320"/>
                <a:chOff x="8429040" y="6052680"/>
                <a:chExt cx="714960" cy="80532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29040" y="6052680"/>
                  <a:ext cx="714960" cy="80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493840" y="6118560"/>
                  <a:ext cx="58428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86640" cy="6858000"/>
              <a:chOff x="-16920" y="0"/>
              <a:chExt cx="938664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78560" y="1325520"/>
                <a:ext cx="1991160" cy="2230200"/>
                <a:chOff x="7378560" y="1325520"/>
                <a:chExt cx="1991160" cy="223020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18760" y="1524240"/>
                  <a:ext cx="1341360" cy="177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39640" y="1514880"/>
                  <a:ext cx="1268280" cy="18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797240" y="5443920"/>
                <a:ext cx="1239480" cy="794160"/>
                <a:chOff x="7797240" y="5443920"/>
                <a:chExt cx="1239480" cy="79416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797240" y="5528520"/>
                  <a:ext cx="1197000" cy="60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71120"/>
                  <a:ext cx="466200" cy="11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46120" y="3908160"/>
                <a:ext cx="1532520" cy="1676520"/>
                <a:chOff x="6846120" y="3908160"/>
                <a:chExt cx="1532520" cy="167652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81200" y="4105080"/>
                  <a:ext cx="1052640" cy="133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47080" y="4048560"/>
                  <a:ext cx="93024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590600" y="393120"/>
                <a:ext cx="873720" cy="1286280"/>
                <a:chOff x="7590600" y="393120"/>
                <a:chExt cx="873720" cy="1286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34520" y="445320"/>
                  <a:ext cx="751680" cy="11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74920" y="443160"/>
                  <a:ext cx="504360" cy="11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51960" y="3295800"/>
                <a:ext cx="1318680" cy="1306080"/>
                <a:chOff x="7851960" y="3295800"/>
                <a:chExt cx="1318680" cy="130608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31960" y="3378240"/>
                  <a:ext cx="980280" cy="11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34840" y="3456720"/>
                  <a:ext cx="952200" cy="9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07680"/>
                <a:ext cx="583200" cy="850320"/>
                <a:chOff x="12960" y="6007680"/>
                <a:chExt cx="583200" cy="85032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07680"/>
                  <a:ext cx="583200" cy="85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68400" y="6064200"/>
                  <a:ext cx="47592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18120"/>
                <a:ext cx="986400" cy="1173960"/>
                <a:chOff x="-4680" y="3318120"/>
                <a:chExt cx="986400" cy="117396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18120"/>
                  <a:ext cx="986400" cy="117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38520" y="3358080"/>
                  <a:ext cx="900720" cy="10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1480"/>
                <a:ext cx="601200" cy="1407600"/>
                <a:chOff x="-16920" y="1401480"/>
                <a:chExt cx="601200" cy="140760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1480"/>
                  <a:ext cx="601200" cy="140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38160" y="1454760"/>
                  <a:ext cx="493200" cy="12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66760" cy="868320"/>
                <a:chOff x="-10800" y="0"/>
                <a:chExt cx="1166760" cy="86832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6676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55440" y="65880"/>
                  <a:ext cx="1035720" cy="73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30320" y="11880"/>
                <a:ext cx="914040" cy="676800"/>
                <a:chOff x="8230320" y="11880"/>
                <a:chExt cx="914040" cy="67680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30320" y="11880"/>
                  <a:ext cx="914040" cy="67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295120" y="77040"/>
                  <a:ext cx="783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882840" y="6115320"/>
                <a:ext cx="1257120" cy="742680"/>
                <a:chOff x="6882840" y="6115320"/>
                <a:chExt cx="1257120" cy="7426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882840" y="6115320"/>
                  <a:ext cx="1257120" cy="74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36840" y="6166800"/>
                  <a:ext cx="114732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1" name="Oval 37"/>
          <p:cNvGrpSpPr/>
          <p:nvPr/>
        </p:nvGrpSpPr>
        <p:grpSpPr>
          <a:xfrm>
            <a:off x="5456160" y="1414440"/>
            <a:ext cx="1127160" cy="1127160"/>
            <a:chOff x="5456160" y="1414440"/>
            <a:chExt cx="1127160" cy="1127160"/>
          </a:xfrm>
        </p:grpSpPr>
        <p:pic>
          <p:nvPicPr>
            <p:cNvPr id="212" name="Oval 37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271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4" name="Oval 38"/>
          <p:cNvGrpSpPr/>
          <p:nvPr/>
        </p:nvGrpSpPr>
        <p:grpSpPr>
          <a:xfrm>
            <a:off x="5626080" y="1390680"/>
            <a:ext cx="871560" cy="871560"/>
            <a:chOff x="5626080" y="1390680"/>
            <a:chExt cx="871560" cy="871560"/>
          </a:xfrm>
        </p:grpSpPr>
        <p:pic>
          <p:nvPicPr>
            <p:cNvPr id="215" name="Oval 38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1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7" name="Oval 39"/>
          <p:cNvGrpSpPr/>
          <p:nvPr/>
        </p:nvGrpSpPr>
        <p:grpSpPr>
          <a:xfrm>
            <a:off x="5230800" y="1871640"/>
            <a:ext cx="646200" cy="646200"/>
            <a:chOff x="5230800" y="1871640"/>
            <a:chExt cx="646200" cy="646200"/>
          </a:xfrm>
        </p:grpSpPr>
        <p:pic>
          <p:nvPicPr>
            <p:cNvPr id="218" name="Oval 39" descr=""/>
            <p:cNvPicPr/>
            <p:nvPr/>
          </p:nvPicPr>
          <p:blipFill>
            <a:blip r:embed="rId31"/>
            <a:stretch/>
          </p:blipFill>
          <p:spPr>
            <a:xfrm>
              <a:off x="5230800" y="1871640"/>
              <a:ext cx="646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0" name="Oval 40"/>
          <p:cNvGrpSpPr/>
          <p:nvPr/>
        </p:nvGrpSpPr>
        <p:grpSpPr>
          <a:xfrm>
            <a:off x="5400720" y="1785960"/>
            <a:ext cx="530280" cy="530280"/>
            <a:chOff x="5400720" y="1785960"/>
            <a:chExt cx="530280" cy="530280"/>
          </a:xfrm>
        </p:grpSpPr>
        <p:pic>
          <p:nvPicPr>
            <p:cNvPr id="221" name="Oval 40" descr=""/>
            <p:cNvPicPr/>
            <p:nvPr/>
          </p:nvPicPr>
          <p:blipFill>
            <a:blip r:embed="rId32"/>
            <a:stretch/>
          </p:blipFill>
          <p:spPr>
            <a:xfrm>
              <a:off x="5400720" y="1785960"/>
              <a:ext cx="5302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3" name="Oval 41"/>
          <p:cNvGrpSpPr/>
          <p:nvPr/>
        </p:nvGrpSpPr>
        <p:grpSpPr>
          <a:xfrm>
            <a:off x="4694400" y="2060640"/>
            <a:ext cx="298440" cy="298440"/>
            <a:chOff x="4694400" y="2060640"/>
            <a:chExt cx="298440" cy="298440"/>
          </a:xfrm>
        </p:grpSpPr>
        <p:pic>
          <p:nvPicPr>
            <p:cNvPr id="224" name="Oval 41" descr=""/>
            <p:cNvPicPr/>
            <p:nvPr/>
          </p:nvPicPr>
          <p:blipFill>
            <a:blip r:embed="rId33"/>
            <a:stretch/>
          </p:blipFill>
          <p:spPr>
            <a:xfrm>
              <a:off x="469440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6" name="Oval 42"/>
          <p:cNvGrpSpPr/>
          <p:nvPr/>
        </p:nvGrpSpPr>
        <p:grpSpPr>
          <a:xfrm>
            <a:off x="6108840" y="969840"/>
            <a:ext cx="298440" cy="298440"/>
            <a:chOff x="6108840" y="969840"/>
            <a:chExt cx="298440" cy="298440"/>
          </a:xfrm>
        </p:grpSpPr>
        <p:pic>
          <p:nvPicPr>
            <p:cNvPr id="227" name="Oval 42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9" name="Oval 43"/>
          <p:cNvGrpSpPr/>
          <p:nvPr/>
        </p:nvGrpSpPr>
        <p:grpSpPr>
          <a:xfrm>
            <a:off x="5035680" y="1871640"/>
            <a:ext cx="237960" cy="238320"/>
            <a:chOff x="5035680" y="1871640"/>
            <a:chExt cx="237960" cy="238320"/>
          </a:xfrm>
        </p:grpSpPr>
        <p:pic>
          <p:nvPicPr>
            <p:cNvPr id="230" name="Oval 4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2" name="Oval 44"/>
          <p:cNvGrpSpPr/>
          <p:nvPr/>
        </p:nvGrpSpPr>
        <p:grpSpPr>
          <a:xfrm>
            <a:off x="6126120" y="1036800"/>
            <a:ext cx="238320" cy="237960"/>
            <a:chOff x="6126120" y="1036800"/>
            <a:chExt cx="238320" cy="237960"/>
          </a:xfrm>
        </p:grpSpPr>
        <p:pic>
          <p:nvPicPr>
            <p:cNvPr id="233" name="Oval 4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383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575A-BB6E-4D07-8B81-A80337895F48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Japan </a:t>
            </a:r>
            <a:r>
              <a:rPr b="0" lang="ja-JP" sz="40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日本（にほん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9000"/>
                </a:solidFill>
                <a:latin typeface="Verdana"/>
              </a:rPr>
              <a:t>Physical Geography</a:t>
            </a:r>
            <a:r>
              <a:rPr b="0" lang="ja-JP" sz="2400" spc="-1" strike="noStrike">
                <a:solidFill>
                  <a:srgbClr val="ff9000"/>
                </a:solidFill>
                <a:latin typeface="Verdana"/>
                <a:ea typeface="ＭＳ ゴシック"/>
              </a:rPr>
              <a:t>　地理　　</a:t>
            </a:r>
            <a:r>
              <a:rPr b="0" lang="en-US" sz="2400" spc="-1" strike="noStrike">
                <a:solidFill>
                  <a:srgbClr val="ff9000"/>
                </a:solidFill>
                <a:latin typeface="Verdana"/>
                <a:ea typeface="ＭＳ ゴシック"/>
              </a:rPr>
              <a:t>(</a:t>
            </a:r>
            <a:r>
              <a:rPr b="0" lang="ja-JP" sz="2400" spc="-1" strike="noStrike">
                <a:solidFill>
                  <a:srgbClr val="ff9000"/>
                </a:solidFill>
                <a:latin typeface="Verdana"/>
                <a:ea typeface="ＭＳ ゴシック"/>
              </a:rPr>
              <a:t>にほんの　ちり</a:t>
            </a:r>
            <a:r>
              <a:rPr b="0" lang="en-US" sz="2400" spc="-1" strike="noStrike">
                <a:solidFill>
                  <a:srgbClr val="ff9000"/>
                </a:solidFill>
                <a:latin typeface="Verdana"/>
                <a:ea typeface="ＭＳ ゴシック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9000"/>
                </a:solidFill>
                <a:latin typeface="Verdana"/>
                <a:ea typeface="ＭＳ ゴシック"/>
              </a:rPr>
              <a:t>ようこ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ff9000"/>
                </a:solidFill>
                <a:latin typeface="Verdana"/>
                <a:ea typeface="ＭＳ ゴシック"/>
              </a:rPr>
              <a:t>　</a:t>
            </a: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Picture 3" descr="U:\Profile\Desktop\Mount_Fuji.jpg"/>
          <p:cNvPicPr/>
          <p:nvPr/>
        </p:nvPicPr>
        <p:blipFill>
          <a:blip r:embed="rId1"/>
          <a:stretch/>
        </p:blipFill>
        <p:spPr>
          <a:xfrm>
            <a:off x="0" y="22320"/>
            <a:ext cx="4876920" cy="3809880"/>
          </a:xfrm>
          <a:prstGeom prst="rect">
            <a:avLst/>
          </a:prstGeom>
          <a:ln w="0">
            <a:noFill/>
          </a:ln>
        </p:spPr>
      </p:pic>
      <p:sp>
        <p:nvSpPr>
          <p:cNvPr id="279" name="TextBox 2"/>
          <p:cNvSpPr/>
          <p:nvPr/>
        </p:nvSpPr>
        <p:spPr>
          <a:xfrm>
            <a:off x="6815160" y="3832200"/>
            <a:ext cx="23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ギャビン　ラオル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チェワン　キ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58672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ckground 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67080" y="761760"/>
            <a:ext cx="394344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f9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Japan (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日本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) is an island nation in the Pacific Ocean, in eastern Asi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f9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t is made of stratovolcanic archipelago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f9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t is made of 4 islan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f9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Japan belongs</a:t>
            </a: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o</a:t>
            </a: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he temperate zone, which has four distinct seas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f9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Its total surface area is 377,832 k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  <a:ea typeface="ＭＳ ゴシック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: land makes up 99% of its surface area at 374,744 k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  <a:ea typeface="ＭＳ ゴシック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 while water make up its remaining 1% surface area at 3091 k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  <a:ea typeface="ＭＳ ゴシック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0" y="762120"/>
            <a:ext cx="4267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28320" y="151920"/>
            <a:ext cx="37911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tural Haza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657600" y="1752480"/>
            <a:ext cx="453384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here are up to 1500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地震 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じしん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 earthquakes which are recorded yearl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Minor tremors are recorded dail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Japan lies in a zone of extreme crustal instability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10 % of the worlds active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火山 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かざん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volcano's  are found in Japan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Undersea earthquakes are another danger for Japan, as they usually lead to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津波　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つなみ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Other natural hazards include;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台風　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たいふう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typhoons,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土砂崩れ　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どしゃくずれ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landslides,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洪水　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こずい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floods,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雪崩 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なだれ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avalanche and the 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雪国 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ゆきぐに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 also called the 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豪雪地帯 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ごせつ　ちたい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 "heavy snow area" which is the snow country.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his can refer to any place with heavy or deep snows, and is generally coined toward the reference of the “Sea of Japan”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日本海　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にほんかい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 side of Honshuu, where the landscape is dominated by the “Japanese Alps”, the series of mountain ranges that make up Japans backbone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2895480" cy="31244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1"/>
          <p:cNvSpPr/>
          <p:nvPr/>
        </p:nvSpPr>
        <p:spPr>
          <a:xfrm>
            <a:off x="217440" y="3984480"/>
            <a:ext cx="1328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Japanese “Alps”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2"/>
          <a:stretch/>
        </p:blipFill>
        <p:spPr>
          <a:xfrm>
            <a:off x="0" y="4246560"/>
            <a:ext cx="4038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本州　ほんしゅ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009800" y="1806120"/>
            <a:ext cx="7124400" cy="428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he mountains that travers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hrough the middle of the island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Are coined as the “Japanese Alps”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ほんしゅう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is the largest island (means “main province”)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Honshuu, is the most well known island, because it is home to the larger cities of Japan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Cities include: Tokyo, Nara, Osaka, Kobe, Kyoto and Hiroshim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he north-western side of the island is bordered by sea of japan (</a:t>
            </a:r>
            <a:r>
              <a:rPr b="0" lang="ja-JP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にほんかい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On its south-eastern side it is bordered by the pacific ocean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Honshuu is home to the highest point in Japan, which is Mount Fuji, at an elevation of 3,776 metres above sea level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It is also home to the lowest point, which is </a:t>
            </a:r>
            <a:r>
              <a:rPr b="0" lang="ja-JP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はちろがた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hachiro-gata), at an elevation of -4 metres above sea level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4565520" y="0"/>
            <a:ext cx="4556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北海道　ほっきど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Wakkanai is the most northern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cit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Sapporo is the largest city on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Hokkaido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Asahidake is the highest point on hokkaido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With an elevation of 2,290 metres above sea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level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he second largest of the four main island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ほっかいどう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is the second largest island (means “northern sea circuit”)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Hokkaido is the least populated and developed of the 4 islands. It is the most mountainous and has the worst winters as it is the most northern island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4857840" y="76320"/>
            <a:ext cx="4286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九州　きゅしゅ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Kyuushuu is home to the city of Nagasaki, where “Fat Man” was dropped (the second atomic bomb) during the second world war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he third largest of he four main islands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きゅうしゅう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is the second smallest island (means “nine provinces”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Kyuushuu is the most southern island- its highest point is </a:t>
            </a:r>
            <a:r>
              <a:rPr b="0" lang="ja-JP" sz="17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　くゆさん　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which is 1,788 metres above sea leve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4635360" y="0"/>
            <a:ext cx="4508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四国　しこ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smallest of the four main isla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しこく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 the smallest island (means “four provinces”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nt Ishizuchi is the highest point at an elevation 1,982 metres above sea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5303880" y="0"/>
            <a:ext cx="384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8:17:44Z</dcterms:created>
  <dc:creator>Gavin Rowell</dc:creator>
  <dc:description/>
  <dc:language>en-US</dc:language>
  <cp:lastModifiedBy>Valued Acer Customer</cp:lastModifiedBy>
  <dcterms:modified xsi:type="dcterms:W3CDTF">2012-12-16T00:28:18Z</dcterms:modified>
  <cp:revision>29</cp:revision>
  <dc:subject/>
  <dc:title>Japan</dc:title>
</cp:coreProperties>
</file>